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100-51B6-464E-93A6-CD5D66E8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C7C-7B40-487A-85D4-6409A7F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08E-03E3-468B-9602-02ECF7F9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FE2-404A-42FD-A344-D4AE40B2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C33-E9B5-47D5-9CED-B19BB0D5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8F9-1ED8-4082-959A-333AD07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893-35FB-4FC1-9620-D5C4EEF5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547-77BB-495F-A82A-551E3873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8D0-301D-400A-8CDE-FB82F271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D6D-4381-4AB0-B229-1F30A4F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C2C-B957-4F0E-A461-2859958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288-7E9B-436D-A9CC-22BEC658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F324-158C-4CD4-A0E1-6DE2DC047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008840" y="6478560"/>
            <a:ext cx="2025720" cy="304920"/>
            <a:chOff x="7008840" y="6478560"/>
            <a:chExt cx="2025720" cy="304920"/>
          </a:xfrm>
        </p:grpSpPr>
        <p:pic>
          <p:nvPicPr>
            <p:cNvPr id="6" name="RSCLOGO1" descr=""/>
            <p:cNvPicPr/>
            <p:nvPr/>
          </p:nvPicPr>
          <p:blipFill>
            <a:blip r:embed="rId2"/>
            <a:srcRect l="0" t="0" r="0" b="27585"/>
            <a:stretch/>
          </p:blipFill>
          <p:spPr>
            <a:xfrm flipH="1" rot="10800000">
              <a:off x="8346960" y="6525720"/>
              <a:ext cx="68760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008840" y="6478560"/>
              <a:ext cx="12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Original slide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repared for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990720" y="1905120"/>
            <a:ext cx="2590560" cy="3429000"/>
            <a:chOff x="990720" y="1905120"/>
            <a:chExt cx="2590560" cy="3429000"/>
          </a:xfrm>
        </p:grpSpPr>
        <p:sp>
          <p:nvSpPr>
            <p:cNvPr id="45" name=""/>
            <p:cNvSpPr/>
            <p:nvPr/>
          </p:nvSpPr>
          <p:spPr>
            <a:xfrm>
              <a:off x="990720" y="4800600"/>
              <a:ext cx="259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sodium at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990720" y="1905120"/>
              <a:ext cx="2419200" cy="2819160"/>
              <a:chOff x="990720" y="1905120"/>
              <a:chExt cx="2419200" cy="2819160"/>
            </a:xfrm>
          </p:grpSpPr>
          <p:sp>
            <p:nvSpPr>
              <p:cNvPr id="47" name=""/>
              <p:cNvSpPr/>
              <p:nvPr/>
            </p:nvSpPr>
            <p:spPr>
              <a:xfrm>
                <a:off x="1393920" y="2631960"/>
                <a:ext cx="1442880" cy="144324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733400" y="297180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17720" y="190512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90640" y="27432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00160" y="274320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75040" y="329724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76480" y="300996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14560" y="23814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24040" y="323856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52480" y="380988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4520" y="238140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81080" y="38098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24040" y="29718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92320" y="327672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986200" y="320508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7760" y="239868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90720" y="384192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24200" y="426708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3560" y="2271600"/>
                <a:ext cx="2163600" cy="216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Formation of ions from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638680" y="2133720"/>
            <a:ext cx="2895840" cy="3124080"/>
            <a:chOff x="5638680" y="2133720"/>
            <a:chExt cx="2895840" cy="3124080"/>
          </a:xfrm>
        </p:grpSpPr>
        <p:grpSp>
          <p:nvGrpSpPr>
            <p:cNvPr id="68" name=""/>
            <p:cNvGrpSpPr/>
            <p:nvPr/>
          </p:nvGrpSpPr>
          <p:grpSpPr>
            <a:xfrm>
              <a:off x="5657760" y="2133720"/>
              <a:ext cx="2495520" cy="2584440"/>
              <a:chOff x="5657760" y="2133720"/>
              <a:chExt cx="2495520" cy="2584440"/>
            </a:xfrm>
          </p:grpSpPr>
          <p:sp>
            <p:nvSpPr>
              <p:cNvPr id="69" name=""/>
              <p:cNvSpPr/>
              <p:nvPr/>
            </p:nvSpPr>
            <p:spPr>
              <a:xfrm>
                <a:off x="5776920" y="2265480"/>
                <a:ext cx="216360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818400" y="329076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77120" y="296532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37280" y="2625840"/>
                <a:ext cx="144288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29560" y="319896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431120" y="396252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18320" y="243540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34080" y="383544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667560" y="426096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2964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82964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93432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5776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6756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65776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77080" y="21337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6748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48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1524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1992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4848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1992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96160" y="251460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29400" y="24955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9616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940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638680" y="48006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hlorine ato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14400" y="5562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 2, 8,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5562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 2, 8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1066680"/>
            <a:ext cx="3429000" cy="5029200"/>
            <a:chOff x="914400" y="1066680"/>
            <a:chExt cx="3429000" cy="5029200"/>
          </a:xfrm>
        </p:grpSpPr>
        <p:grpSp>
          <p:nvGrpSpPr>
            <p:cNvPr id="99" name=""/>
            <p:cNvGrpSpPr/>
            <p:nvPr/>
          </p:nvGrpSpPr>
          <p:grpSpPr>
            <a:xfrm>
              <a:off x="952560" y="1066680"/>
              <a:ext cx="3390840" cy="4267080"/>
              <a:chOff x="952560" y="1066680"/>
              <a:chExt cx="3390840" cy="42670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952560" y="1066680"/>
                <a:ext cx="3390840" cy="3581280"/>
                <a:chOff x="952560" y="1066680"/>
                <a:chExt cx="3390840" cy="3581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828800" y="1809720"/>
                  <a:ext cx="609840" cy="4572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952560" y="1066680"/>
                  <a:ext cx="3390840" cy="3581280"/>
                  <a:chOff x="952560" y="1066680"/>
                  <a:chExt cx="3390840" cy="358128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3918240" y="106668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952560" y="1447560"/>
                    <a:ext cx="2933640" cy="3200400"/>
                    <a:chOff x="952560" y="1447560"/>
                    <a:chExt cx="2933640" cy="3200400"/>
                  </a:xfrm>
                </p:grpSpPr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952560" y="1828800"/>
                      <a:ext cx="2933640" cy="2819160"/>
                      <a:chOff x="952560" y="1828800"/>
                      <a:chExt cx="2933640" cy="2819160"/>
                    </a:xfrm>
                  </p:grpSpPr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952560" y="2057400"/>
                        <a:ext cx="2362320" cy="2590560"/>
                      </a:xfrm>
                      <a:prstGeom prst="bracketPair">
                        <a:avLst>
                          <a:gd name="adj" fmla="val 17129"/>
                        </a:avLst>
                      </a:prstGeom>
                      <a:noFill/>
                      <a:ln w="38160">
                        <a:solidFill>
                          <a:srgbClr val="a5002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3048120" y="182880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800" spc="-1" strike="noStrike">
                            <a:solidFill>
                              <a:srgbClr val="a50021"/>
                            </a:solidFill>
                            <a:latin typeface="Verdana"/>
                          </a:rPr>
                          <a:t>+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2743200" y="1447560"/>
                      <a:ext cx="609840" cy="4572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9" name=""/>
              <p:cNvSpPr/>
              <p:nvPr/>
            </p:nvSpPr>
            <p:spPr>
              <a:xfrm>
                <a:off x="990720" y="4800600"/>
                <a:ext cx="25146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sodium </a:t>
                </a:r>
                <a:r>
                  <a:rPr b="0" lang="en-GB" sz="2800" spc="-1" strike="noStrike">
                    <a:solidFill>
                      <a:srgbClr val="a50021"/>
                    </a:solidFill>
                    <a:latin typeface="Verdana"/>
                  </a:rPr>
                  <a:t>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914400" y="5562360"/>
              <a:ext cx="25146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1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GB" sz="2800" spc="-1" strike="noStrike">
                  <a:solidFill>
                    <a:srgbClr val="a50021"/>
                  </a:solidFill>
                  <a:latin typeface="Verdana"/>
                </a:rPr>
                <a:t>2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86200" y="990720"/>
            <a:ext cx="1523520" cy="688320"/>
            <a:chOff x="3886200" y="990720"/>
            <a:chExt cx="1523520" cy="688320"/>
          </a:xfrm>
        </p:grpSpPr>
        <p:sp>
          <p:nvSpPr>
            <p:cNvPr id="112" name=""/>
            <p:cNvSpPr/>
            <p:nvPr/>
          </p:nvSpPr>
          <p:spPr>
            <a:xfrm>
              <a:off x="4984560" y="1219320"/>
              <a:ext cx="4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990720"/>
              <a:ext cx="533160" cy="60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952880" y="1219320"/>
            <a:ext cx="1371600" cy="840600"/>
            <a:chOff x="4952880" y="1219320"/>
            <a:chExt cx="1371600" cy="840600"/>
          </a:xfrm>
        </p:grpSpPr>
        <p:sp>
          <p:nvSpPr>
            <p:cNvPr id="115" name=""/>
            <p:cNvSpPr/>
            <p:nvPr/>
          </p:nvSpPr>
          <p:spPr>
            <a:xfrm>
              <a:off x="5898960" y="16002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2880" y="12193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10080" y="1486080"/>
            <a:ext cx="3353040" cy="4647960"/>
            <a:chOff x="5410080" y="1486080"/>
            <a:chExt cx="3353040" cy="4647960"/>
          </a:xfrm>
        </p:grpSpPr>
        <p:sp>
          <p:nvSpPr>
            <p:cNvPr id="118" name=""/>
            <p:cNvSpPr/>
            <p:nvPr/>
          </p:nvSpPr>
          <p:spPr>
            <a:xfrm>
              <a:off x="5581800" y="5600880"/>
              <a:ext cx="25146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7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l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2, 8, </a:t>
              </a:r>
              <a:r>
                <a:rPr b="0" lang="en-GB" sz="2800" spc="-1" strike="noStrike">
                  <a:solidFill>
                    <a:srgbClr val="3333cc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410080" y="1486080"/>
              <a:ext cx="3353040" cy="3809880"/>
              <a:chOff x="5410080" y="1486080"/>
              <a:chExt cx="3353040" cy="38098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5562720" y="1486080"/>
                <a:ext cx="3200400" cy="3200040"/>
                <a:chOff x="5562720" y="1486080"/>
                <a:chExt cx="3200400" cy="32000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5715000" y="1486080"/>
                  <a:ext cx="1218960" cy="992880"/>
                  <a:chOff x="5715000" y="1486080"/>
                  <a:chExt cx="1218960" cy="9928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08800" y="201924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5715000" y="1486080"/>
                    <a:ext cx="53316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5562720" y="1866960"/>
                  <a:ext cx="3200400" cy="2819160"/>
                  <a:chOff x="5562720" y="1866960"/>
                  <a:chExt cx="3200400" cy="28191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5562720" y="2095560"/>
                    <a:ext cx="2590920" cy="259056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25040" y="1866960"/>
                    <a:ext cx="83808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4400" spc="-1" strike="noStrike">
                        <a:solidFill>
                          <a:srgbClr val="3333cc"/>
                        </a:solidFill>
                        <a:latin typeface="Verdana"/>
                      </a:rPr>
                      <a:t>-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" name=""/>
              <p:cNvSpPr/>
              <p:nvPr/>
            </p:nvSpPr>
            <p:spPr>
              <a:xfrm>
                <a:off x="5410080" y="4838760"/>
                <a:ext cx="2895840" cy="457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chlor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de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on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828800" y="1143000"/>
            <a:ext cx="556272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one electron trans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752480" y="1981080"/>
            <a:ext cx="2590920" cy="3429000"/>
            <a:chOff x="1752480" y="1981080"/>
            <a:chExt cx="2590920" cy="3429000"/>
          </a:xfrm>
        </p:grpSpPr>
        <p:sp>
          <p:nvSpPr>
            <p:cNvPr id="130" name=""/>
            <p:cNvSpPr/>
            <p:nvPr/>
          </p:nvSpPr>
          <p:spPr>
            <a:xfrm>
              <a:off x="1752480" y="4876920"/>
              <a:ext cx="2590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sodium at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752480" y="1981080"/>
              <a:ext cx="2419200" cy="2819520"/>
              <a:chOff x="1752480" y="1981080"/>
              <a:chExt cx="2419200" cy="28195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55680" y="2708280"/>
                <a:ext cx="144324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95520" y="304812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79480" y="19810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57480" y="32608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93920" y="32814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36800" y="337356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7400" y="27306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38560" y="277164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38560" y="374796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92320" y="375912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85960" y="24382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85960" y="40035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86160" y="326088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54080" y="32814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47960" y="328140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49520" y="404496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49520" y="247500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52480" y="391788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85960" y="434340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95320" y="2347920"/>
                <a:ext cx="216396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posi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6386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 2, 8,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76520" y="1143000"/>
            <a:ext cx="3429000" cy="5029200"/>
            <a:chOff x="1676520" y="1143000"/>
            <a:chExt cx="3429000" cy="5029200"/>
          </a:xfrm>
        </p:grpSpPr>
        <p:grpSp>
          <p:nvGrpSpPr>
            <p:cNvPr id="155" name=""/>
            <p:cNvGrpSpPr/>
            <p:nvPr/>
          </p:nvGrpSpPr>
          <p:grpSpPr>
            <a:xfrm>
              <a:off x="1714680" y="1143000"/>
              <a:ext cx="3390840" cy="4267080"/>
              <a:chOff x="1714680" y="1143000"/>
              <a:chExt cx="3390840" cy="42670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1714680" y="1143000"/>
                <a:ext cx="3390840" cy="3581280"/>
                <a:chOff x="1714680" y="1143000"/>
                <a:chExt cx="3390840" cy="3581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90920" y="1886040"/>
                  <a:ext cx="609840" cy="4572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1714680" y="1143000"/>
                  <a:ext cx="3390840" cy="3581280"/>
                  <a:chOff x="1714680" y="1143000"/>
                  <a:chExt cx="3390840" cy="35812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4680360" y="114300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714680" y="1523880"/>
                    <a:ext cx="2933640" cy="3200400"/>
                    <a:chOff x="1714680" y="1523880"/>
                    <a:chExt cx="2933640" cy="32004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1714680" y="1905120"/>
                      <a:ext cx="2933640" cy="2819160"/>
                      <a:chOff x="1714680" y="1905120"/>
                      <a:chExt cx="2933640" cy="2819160"/>
                    </a:xfrm>
                  </p:grpSpPr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1714680" y="2133720"/>
                        <a:ext cx="2362320" cy="2590560"/>
                      </a:xfrm>
                      <a:prstGeom prst="bracketPair">
                        <a:avLst>
                          <a:gd name="adj" fmla="val 17129"/>
                        </a:avLst>
                      </a:prstGeom>
                      <a:noFill/>
                      <a:ln w="38160">
                        <a:solidFill>
                          <a:srgbClr val="a5002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3810240" y="190512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800" spc="-1" strike="noStrike">
                            <a:solidFill>
                              <a:srgbClr val="a50021"/>
                            </a:solidFill>
                            <a:latin typeface="Verdana"/>
                          </a:rPr>
                          <a:t>+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3505320" y="1523880"/>
                      <a:ext cx="609840" cy="4572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5" name=""/>
              <p:cNvSpPr/>
              <p:nvPr/>
            </p:nvSpPr>
            <p:spPr>
              <a:xfrm>
                <a:off x="1752840" y="4876920"/>
                <a:ext cx="25146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sodium </a:t>
                </a:r>
                <a:r>
                  <a:rPr b="0" lang="en-GB" sz="2800" spc="-1" strike="noStrike">
                    <a:solidFill>
                      <a:srgbClr val="a50021"/>
                    </a:solidFill>
                    <a:latin typeface="Verdana"/>
                  </a:rPr>
                  <a:t>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676520" y="5638680"/>
              <a:ext cx="25146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1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GB" sz="2800" spc="-1" strike="noStrike">
                  <a:solidFill>
                    <a:srgbClr val="a50021"/>
                  </a:solidFill>
                  <a:latin typeface="Verdana"/>
                </a:rPr>
                <a:t>2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771560" y="1981080"/>
            <a:ext cx="2590560" cy="3429000"/>
            <a:chOff x="1771560" y="1981080"/>
            <a:chExt cx="2590560" cy="3429000"/>
          </a:xfrm>
        </p:grpSpPr>
        <p:sp>
          <p:nvSpPr>
            <p:cNvPr id="168" name=""/>
            <p:cNvSpPr/>
            <p:nvPr/>
          </p:nvSpPr>
          <p:spPr>
            <a:xfrm>
              <a:off x="1771560" y="4876560"/>
              <a:ext cx="259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771560" y="1981080"/>
              <a:ext cx="2419200" cy="2819160"/>
              <a:chOff x="1771560" y="1981080"/>
              <a:chExt cx="2419200" cy="2819160"/>
            </a:xfrm>
          </p:grpSpPr>
          <p:sp>
            <p:nvSpPr>
              <p:cNvPr id="170" name=""/>
              <p:cNvSpPr/>
              <p:nvPr/>
            </p:nvSpPr>
            <p:spPr>
              <a:xfrm>
                <a:off x="2174760" y="2707920"/>
                <a:ext cx="1442880" cy="144324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14240" y="304776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98560" y="19810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71480" y="28191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81000" y="281916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55880" y="337320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57320" y="308592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95400" y="245736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04880" y="331452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33320" y="388584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65360" y="245736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61920" y="38858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04880" y="30477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73160" y="335268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67040" y="328104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68600" y="247464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71560" y="391788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05040" y="434304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14400" y="2347560"/>
                <a:ext cx="2163600" cy="216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posi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50292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 2, 8,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14680" y="1905120"/>
            <a:ext cx="2933640" cy="2819160"/>
            <a:chOff x="1714680" y="1905120"/>
            <a:chExt cx="2933640" cy="2819160"/>
          </a:xfrm>
        </p:grpSpPr>
        <p:sp>
          <p:nvSpPr>
            <p:cNvPr id="192" name=""/>
            <p:cNvSpPr/>
            <p:nvPr/>
          </p:nvSpPr>
          <p:spPr>
            <a:xfrm>
              <a:off x="1714680" y="2133720"/>
              <a:ext cx="2362320" cy="2590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0240" y="1905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676520" y="5010120"/>
            <a:ext cx="25146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2,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72280" y="2743200"/>
            <a:ext cx="2286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diu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91040" y="3378240"/>
            <a:ext cx="304812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ses on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62440" y="4013280"/>
            <a:ext cx="3505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form sodium ion with 1+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90920" y="1143000"/>
            <a:ext cx="2514600" cy="1200240"/>
            <a:chOff x="2590920" y="1143000"/>
            <a:chExt cx="2514600" cy="1200240"/>
          </a:xfrm>
        </p:grpSpPr>
        <p:sp>
          <p:nvSpPr>
            <p:cNvPr id="199" name=""/>
            <p:cNvSpPr/>
            <p:nvPr/>
          </p:nvSpPr>
          <p:spPr>
            <a:xfrm>
              <a:off x="2590920" y="1886040"/>
              <a:ext cx="6094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0000" y="11430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267080" y="4952880"/>
            <a:ext cx="449604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losing an electr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om its outer energy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752480" y="2133720"/>
            <a:ext cx="2895840" cy="3124080"/>
            <a:chOff x="1752480" y="2133720"/>
            <a:chExt cx="2895840" cy="3124080"/>
          </a:xfrm>
        </p:grpSpPr>
        <p:grpSp>
          <p:nvGrpSpPr>
            <p:cNvPr id="203" name=""/>
            <p:cNvGrpSpPr/>
            <p:nvPr/>
          </p:nvGrpSpPr>
          <p:grpSpPr>
            <a:xfrm>
              <a:off x="1771560" y="2133720"/>
              <a:ext cx="2495520" cy="2584440"/>
              <a:chOff x="1771560" y="2133720"/>
              <a:chExt cx="2495520" cy="2584440"/>
            </a:xfrm>
          </p:grpSpPr>
          <p:sp>
            <p:nvSpPr>
              <p:cNvPr id="204" name=""/>
              <p:cNvSpPr/>
              <p:nvPr/>
            </p:nvSpPr>
            <p:spPr>
              <a:xfrm>
                <a:off x="1890720" y="2265480"/>
                <a:ext cx="216360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32200" y="329076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90920" y="296532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51080" y="2625840"/>
                <a:ext cx="144288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43360" y="319896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44920" y="396252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32120" y="243540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7880" y="383544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81360" y="426096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4344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4344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4812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156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8136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7156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90880" y="21337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8128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8128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904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3372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6228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3372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09960" y="251460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43200" y="24955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0996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20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752480" y="48006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hlorine ato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nega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562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 2, 8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066680" y="1219320"/>
            <a:ext cx="1371600" cy="840600"/>
            <a:chOff x="1066680" y="1219320"/>
            <a:chExt cx="1371600" cy="840600"/>
          </a:xfrm>
        </p:grpSpPr>
        <p:sp>
          <p:nvSpPr>
            <p:cNvPr id="234" name=""/>
            <p:cNvSpPr/>
            <p:nvPr/>
          </p:nvSpPr>
          <p:spPr>
            <a:xfrm>
              <a:off x="2012760" y="16002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6680" y="12193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676520" y="1467000"/>
            <a:ext cx="3200400" cy="4628880"/>
            <a:chOff x="1676520" y="1467000"/>
            <a:chExt cx="3200400" cy="4628880"/>
          </a:xfrm>
        </p:grpSpPr>
        <p:sp>
          <p:nvSpPr>
            <p:cNvPr id="237" name=""/>
            <p:cNvSpPr/>
            <p:nvPr/>
          </p:nvSpPr>
          <p:spPr>
            <a:xfrm>
              <a:off x="1828800" y="5562720"/>
              <a:ext cx="25146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7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l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2, 8, </a:t>
              </a:r>
              <a:r>
                <a:rPr b="0" lang="en-GB" sz="2800" spc="-1" strike="noStrike">
                  <a:solidFill>
                    <a:srgbClr val="3333cc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676520" y="1467000"/>
              <a:ext cx="3200400" cy="3790800"/>
              <a:chOff x="1676520" y="1467000"/>
              <a:chExt cx="3200400" cy="37908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676520" y="1467000"/>
                <a:ext cx="3200400" cy="3181320"/>
                <a:chOff x="1676520" y="1467000"/>
                <a:chExt cx="3200400" cy="3181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1847880" y="1467000"/>
                  <a:ext cx="1218960" cy="992880"/>
                  <a:chOff x="1847880" y="1467000"/>
                  <a:chExt cx="1218960" cy="992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2641680" y="200016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847880" y="1467000"/>
                    <a:ext cx="53316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1676520" y="1828800"/>
                  <a:ext cx="3200400" cy="2819520"/>
                  <a:chOff x="1676520" y="1828800"/>
                  <a:chExt cx="3200400" cy="28195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676520" y="2057400"/>
                    <a:ext cx="2590560" cy="25909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038480" y="1828800"/>
                    <a:ext cx="8384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4400" spc="-1" strike="noStrike">
                        <a:solidFill>
                          <a:srgbClr val="3333cc"/>
                        </a:solidFill>
                        <a:latin typeface="Verdana"/>
                      </a:rPr>
                      <a:t>-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6" name=""/>
              <p:cNvSpPr/>
              <p:nvPr/>
            </p:nvSpPr>
            <p:spPr>
              <a:xfrm>
                <a:off x="1676520" y="4800600"/>
                <a:ext cx="2895480" cy="457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chlor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de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on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47242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 2, 8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nega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33520" y="990720"/>
            <a:ext cx="1371600" cy="840600"/>
            <a:chOff x="533520" y="990720"/>
            <a:chExt cx="1371600" cy="840600"/>
          </a:xfrm>
        </p:grpSpPr>
        <p:sp>
          <p:nvSpPr>
            <p:cNvPr id="250" name=""/>
            <p:cNvSpPr/>
            <p:nvPr/>
          </p:nvSpPr>
          <p:spPr>
            <a:xfrm>
              <a:off x="1479600" y="13716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520" y="9907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143000" y="4724280"/>
            <a:ext cx="25146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2, 8, </a:t>
            </a: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47920" y="1219320"/>
            <a:ext cx="1104840" cy="992880"/>
            <a:chOff x="1447920" y="1219320"/>
            <a:chExt cx="1104840" cy="992880"/>
          </a:xfrm>
        </p:grpSpPr>
        <p:sp>
          <p:nvSpPr>
            <p:cNvPr id="254" name=""/>
            <p:cNvSpPr/>
            <p:nvPr/>
          </p:nvSpPr>
          <p:spPr>
            <a:xfrm>
              <a:off x="2127240" y="175248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12193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143000" y="1600200"/>
            <a:ext cx="3200400" cy="2819520"/>
            <a:chOff x="1143000" y="1600200"/>
            <a:chExt cx="3200400" cy="2819520"/>
          </a:xfrm>
        </p:grpSpPr>
        <p:sp>
          <p:nvSpPr>
            <p:cNvPr id="257" name=""/>
            <p:cNvSpPr/>
            <p:nvPr/>
          </p:nvSpPr>
          <p:spPr>
            <a:xfrm>
              <a:off x="1143000" y="1828800"/>
              <a:ext cx="2590920" cy="2590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5320" y="16002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3333cc"/>
                  </a:solidFill>
                  <a:latin typeface="Verdana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00560" y="1981080"/>
            <a:ext cx="247644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lorin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15080" y="2743200"/>
            <a:ext cx="304776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ains on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6480" y="3505320"/>
            <a:ext cx="350496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form chloride ion with 1-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4572000"/>
            <a:ext cx="44956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gaining an electr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its outer energy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38400" y="1886040"/>
            <a:ext cx="2895480" cy="3124080"/>
            <a:chOff x="1238400" y="1886040"/>
            <a:chExt cx="2895480" cy="3124080"/>
          </a:xfrm>
        </p:grpSpPr>
        <p:grpSp>
          <p:nvGrpSpPr>
            <p:cNvPr id="264" name=""/>
            <p:cNvGrpSpPr/>
            <p:nvPr/>
          </p:nvGrpSpPr>
          <p:grpSpPr>
            <a:xfrm>
              <a:off x="1257120" y="1886040"/>
              <a:ext cx="2494800" cy="2584440"/>
              <a:chOff x="1257120" y="1886040"/>
              <a:chExt cx="2494800" cy="2584440"/>
            </a:xfrm>
          </p:grpSpPr>
          <p:sp>
            <p:nvSpPr>
              <p:cNvPr id="265" name=""/>
              <p:cNvSpPr/>
              <p:nvPr/>
            </p:nvSpPr>
            <p:spPr>
              <a:xfrm>
                <a:off x="1375920" y="2017800"/>
                <a:ext cx="216324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17400" y="3043080"/>
                <a:ext cx="9648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76120" y="2717640"/>
                <a:ext cx="76320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36280" y="2378160"/>
                <a:ext cx="144252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28560" y="2951280"/>
                <a:ext cx="423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0120" y="371484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17320" y="2187720"/>
                <a:ext cx="424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33080" y="3587760"/>
                <a:ext cx="423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6560" y="401328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8640" y="28764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28640" y="312408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3320" y="40766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57120" y="31050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66560" y="40766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57120" y="28386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76080" y="18860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66480" y="28764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066480" y="312408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14240" y="369576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18920" y="31050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47480" y="369576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618920" y="28386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95160" y="226692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28400" y="22478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495160" y="26478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28400" y="26478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238400" y="4552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eve Lewis for the Royal Society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wis</dc:creator>
  <dc:description>Electron arrangement in shells related to atomic number and configuration</dc:description>
  <cp:keywords>electron shells</cp:keywords>
  <dc:language>en-US</dc:language>
  <cp:lastModifiedBy>dulwich</cp:lastModifiedBy>
  <dcterms:modified xsi:type="dcterms:W3CDTF">2005-02-20T13:45:49Z</dcterms:modified>
  <cp:revision>75</cp:revision>
  <dc:subject/>
  <dc:title>electron shells</dc:title>
</cp:coreProperties>
</file>